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460840" y="194292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80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1371600" cy="156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7" name=""/>
          <p:cNvSpPr/>
          <p:nvPr/>
        </p:nvSpPr>
        <p:spPr>
          <a:xfrm>
            <a:off x="1765440" y="1981080"/>
            <a:ext cx="5918040" cy="3530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2e6ffd"/>
                </a:solidFill>
                <a:latin typeface="Lucida Grande"/>
                <a:ea typeface="Lucida Grande"/>
              </a:rPr>
              <a:t>Chines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2e6ffd"/>
                </a:solidFill>
                <a:latin typeface="Lucida Grande"/>
                <a:ea typeface="Lucida Grande"/>
              </a:rPr>
              <a:t>Philosoph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081880" y="1981080"/>
            <a:ext cx="6426000" cy="240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Confucianism</a:t>
            </a:r>
            <a:endParaRPr b="0" lang="en-US" sz="7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4408560" y="609480"/>
            <a:ext cx="3695760" cy="1092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Confuciu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41200" y="1432080"/>
            <a:ext cx="3273480" cy="4305240"/>
          </a:xfrm>
          <a:prstGeom prst="rect">
            <a:avLst/>
          </a:prstGeom>
          <a:ln w="9360">
            <a:solidFill>
              <a:srgbClr val="ffc757"/>
            </a:solidFill>
            <a:miter/>
          </a:ln>
        </p:spPr>
      </p:pic>
      <p:sp>
        <p:nvSpPr>
          <p:cNvPr id="531" name=""/>
          <p:cNvSpPr/>
          <p:nvPr/>
        </p:nvSpPr>
        <p:spPr>
          <a:xfrm>
            <a:off x="3543480" y="1638360"/>
            <a:ext cx="5410080" cy="496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Kung Fuzi (Master Kung) 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about 500 B.C.E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Advisor to rulers during Warring States period of Chin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244520" y="1339920"/>
            <a:ext cx="2971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1. Ruler    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1739880"/>
            <a:ext cx="1600200" cy="144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6210360" y="1295280"/>
            <a:ext cx="2374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Subjec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1244520" y="2216160"/>
            <a:ext cx="29718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2. Father   </a:t>
            </a:r>
            <a:r>
              <a:rPr b="0" lang="en-US" sz="4800" spc="-1" strike="noStrike">
                <a:solidFill>
                  <a:srgbClr val="0044fe"/>
                </a:solidFill>
                <a:latin typeface="Comic Sans MS"/>
                <a:ea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4317840" y="2692440"/>
            <a:ext cx="1600200" cy="144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6134040" y="2298600"/>
            <a:ext cx="2374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S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1244520" y="3321000"/>
            <a:ext cx="3124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3. Husband    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4317840" y="3670200"/>
            <a:ext cx="1600200" cy="180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6210360" y="3327480"/>
            <a:ext cx="2374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Wif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1168560" y="4356000"/>
            <a:ext cx="3124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4. Elder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4317840" y="4737240"/>
            <a:ext cx="1600200" cy="1440"/>
          </a:xfrm>
          <a:prstGeom prst="line">
            <a:avLst/>
          </a:prstGeom>
          <a:ln w="381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6299280" y="4330800"/>
            <a:ext cx="2603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Younger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65240" y="50760"/>
            <a:ext cx="8470800" cy="1422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4 Principle Relationship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-177840" y="0"/>
            <a:ext cx="9499680" cy="2158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Organizing Principle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1231920" y="1063800"/>
            <a:ext cx="6451560" cy="556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Comic Sans MS"/>
                <a:ea typeface="Comic Sans MS"/>
              </a:rPr>
              <a:t> </a:t>
            </a:r>
            <a:r>
              <a:rPr b="0" lang="en-US" sz="7200" spc="-1" strike="noStrike">
                <a:solidFill>
                  <a:srgbClr val="003dcc"/>
                </a:solidFill>
                <a:latin typeface="Gill Sans"/>
                <a:ea typeface="Gill Sans"/>
              </a:rPr>
              <a:t>Status</a:t>
            </a:r>
            <a:br>
              <a:rPr sz="7200"/>
            </a:br>
            <a:r>
              <a:rPr b="0" lang="en-US" sz="7200" spc="-1" strike="noStrike">
                <a:solidFill>
                  <a:srgbClr val="003dcc"/>
                </a:solidFill>
                <a:latin typeface="Gill San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Gill Sans"/>
                <a:ea typeface="Gill Sans"/>
              </a:rPr>
              <a:t> </a:t>
            </a:r>
            <a:r>
              <a:rPr b="0" lang="en-US" sz="7200" spc="-1" strike="noStrike">
                <a:solidFill>
                  <a:srgbClr val="003dcc"/>
                </a:solidFill>
                <a:latin typeface="Gill Sans"/>
                <a:ea typeface="Gill Sans"/>
              </a:rPr>
              <a:t>Age</a:t>
            </a:r>
            <a:br>
              <a:rPr sz="7200"/>
            </a:br>
            <a:r>
              <a:rPr b="0" lang="en-US" sz="7200" spc="-1" strike="noStrike">
                <a:solidFill>
                  <a:srgbClr val="003dcc"/>
                </a:solidFill>
                <a:latin typeface="Gill San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Gill Sans"/>
                <a:ea typeface="Gill Sans"/>
              </a:rPr>
              <a:t> </a:t>
            </a:r>
            <a:r>
              <a:rPr b="0" lang="en-US" sz="7200" spc="-1" strike="noStrike">
                <a:solidFill>
                  <a:srgbClr val="003dcc"/>
                </a:solidFill>
                <a:latin typeface="Gill Sans"/>
                <a:ea typeface="Gill Sans"/>
              </a:rPr>
              <a:t>Gender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043800" y="2209680"/>
            <a:ext cx="4350240" cy="2926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Daoism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065320" y="546120"/>
            <a:ext cx="4554360" cy="1462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e Dao De J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177840" y="2200320"/>
            <a:ext cx="9016920" cy="45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The basic text of Daoism.</a:t>
            </a:r>
            <a:br>
              <a:rPr sz="4800"/>
            </a:br>
            <a:r>
              <a:rPr b="0" lang="en-US" sz="4800" spc="-1" strike="noStrike">
                <a:solidFill>
                  <a:srgbClr val="0044fe"/>
                </a:solidFill>
                <a:latin typeface="Gill San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In Chinese, it means The Classic in</a:t>
            </a:r>
            <a:br>
              <a:rPr sz="4800"/>
            </a:br>
            <a:r>
              <a:rPr b="0" lang="en-US" sz="4800" spc="-1" strike="noStrike">
                <a:solidFill>
                  <a:srgbClr val="0044fe"/>
                </a:solidFill>
                <a:latin typeface="Gill Sans"/>
                <a:ea typeface="Gill Sans"/>
              </a:rPr>
              <a:t>  the Way and Its Power.</a:t>
            </a:r>
            <a:br>
              <a:rPr sz="2400"/>
            </a:br>
            <a:r>
              <a:rPr b="0" lang="en-US" sz="2400" spc="-1" strike="noStrike">
                <a:solidFill>
                  <a:srgbClr val="d90b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82640" y="888840"/>
            <a:ext cx="1460520" cy="1054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Yi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984400" y="1962000"/>
            <a:ext cx="3848040" cy="39560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 flipH="1" flipV="1">
            <a:off x="6476760" y="5029200"/>
            <a:ext cx="990360" cy="990720"/>
          </a:xfrm>
          <a:prstGeom prst="line">
            <a:avLst/>
          </a:prstGeom>
          <a:ln w="28440">
            <a:solidFill>
              <a:srgbClr val="ff33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2058840" y="1701720"/>
            <a:ext cx="1903680" cy="1268640"/>
          </a:xfrm>
          <a:prstGeom prst="line">
            <a:avLst/>
          </a:prstGeom>
          <a:ln w="28440">
            <a:solidFill>
              <a:srgbClr val="ff33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6769080" y="1830240"/>
            <a:ext cx="2374920" cy="32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Masculin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Activ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Warm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Stro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482760" y="2216160"/>
            <a:ext cx="2654280" cy="308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Feminin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Passiv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Darknes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 </a:t>
            </a:r>
            <a:r>
              <a:rPr b="0" lang="en-US" sz="3600" spc="-1" strike="noStrike">
                <a:solidFill>
                  <a:srgbClr val="0044fe"/>
                </a:solidFill>
                <a:latin typeface="Gill Sans"/>
                <a:ea typeface="Gill Sans"/>
              </a:rPr>
              <a:t>Weak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 algn="ctr">
              <a:lnSpc>
                <a:spcPct val="100000"/>
              </a:lnSpc>
              <a:buClr>
                <a:srgbClr val="ff0000"/>
              </a:buClr>
              <a:buFont typeface="Comic Sans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295240" y="533520"/>
            <a:ext cx="720" cy="853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7509960" y="5562720"/>
            <a:ext cx="1437840" cy="1462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99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Yang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san M. Pojer</dc:creator>
  <dc:description/>
  <dc:language>en-US</dc:language>
  <cp:lastModifiedBy/>
  <cp:revision>0</cp:revision>
  <dc:subject/>
  <dc:title>CHinese Philosophies &amp; Ethical Codes</dc:title>
</cp:coreProperties>
</file>